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gif" ContentType="image/gi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4.jpeg" ContentType="image/jpeg"/>
  <Override PartName="/ppt/media/image10.wmf" ContentType="image/x-wmf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8632-0E45-4912-9C3B-E9C78DCFB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04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EC0A-AFD5-475B-AD36-9CB87338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04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04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3E40-B75E-402F-89BE-57EB054F5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04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04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04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578F-8A6D-406B-A3C2-712D31405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70A3-BED7-4FA1-8CC5-29BA7F25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010B-F348-4598-BE8C-2CAE6E2E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EA21-F966-4DB5-AA84-DABF3093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A429-5459-4C5B-82E6-556388E6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7735-897C-417B-A0F4-86A10137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04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1C48-38EA-4E85-9759-645587E7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04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588D-4EE1-4C27-9103-3BEFAA7F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04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2546-3F4E-481D-8D20-A6666B0F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esfera wire"/>
          <p:cNvPicPr/>
          <p:nvPr/>
        </p:nvPicPr>
        <p:blipFill>
          <a:blip r:embed="rId2"/>
          <a:stretch/>
        </p:blipFill>
        <p:spPr>
          <a:xfrm>
            <a:off x="1752480" y="-393840"/>
            <a:ext cx="7925040" cy="7251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FAD2-59C2-450C-8463-F6EDC67F0A0F}" type="slidenum"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7" descr="fusao capa cases"/>
          <p:cNvPicPr/>
          <p:nvPr/>
        </p:nvPicPr>
        <p:blipFill>
          <a:blip r:embed="rId3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7" descr=""/>
          <p:cNvPicPr/>
          <p:nvPr/>
        </p:nvPicPr>
        <p:blipFill>
          <a:blip r:embed="rId4"/>
          <a:stretch/>
        </p:blipFill>
        <p:spPr>
          <a:xfrm>
            <a:off x="7093080" y="6021360"/>
            <a:ext cx="18399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5"/>
          <p:cNvSpPr/>
          <p:nvPr/>
        </p:nvSpPr>
        <p:spPr>
          <a:xfrm>
            <a:off x="687240" y="620640"/>
            <a:ext cx="8456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800" spc="-1" strike="noStrike">
                <a:solidFill>
                  <a:srgbClr val="000000"/>
                </a:solidFill>
                <a:latin typeface="Times New Roman"/>
              </a:rPr>
              <a:t>TECNOLOGIA DA INFORMAÇÃ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8" descr="j0178393"/>
          <p:cNvPicPr/>
          <p:nvPr/>
        </p:nvPicPr>
        <p:blipFill>
          <a:blip r:embed="rId1"/>
          <a:stretch/>
        </p:blipFill>
        <p:spPr>
          <a:xfrm>
            <a:off x="3132000" y="2276640"/>
            <a:ext cx="3657600" cy="23526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9"/>
          <p:cNvSpPr/>
          <p:nvPr/>
        </p:nvSpPr>
        <p:spPr>
          <a:xfrm>
            <a:off x="3435120" y="4941720"/>
            <a:ext cx="29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Prof. Romulo Barro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0000"/>
                </a:solidFill>
                <a:latin typeface="Verdana"/>
              </a:rPr>
              <a:t>Exemplos</a:t>
            </a: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3809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perar um caixa automático de banco ou qualquer outro serviço de auto-atendiment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trabalhador precisará de habilidades de digitação ou simplesmente precisará selecionar e apertar botõ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4" descr="j0195384"/>
          <p:cNvPicPr/>
          <p:nvPr/>
        </p:nvPicPr>
        <p:blipFill>
          <a:blip r:embed="rId1"/>
          <a:stretch/>
        </p:blipFill>
        <p:spPr>
          <a:xfrm>
            <a:off x="5940360" y="242100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8532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Verdana"/>
              </a:rPr>
              <a:t>A Tecnologia da Informação e a Competitividade</a:t>
            </a:r>
            <a:endParaRPr b="0" i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5113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tecnologia proporcionou às organizações um potencial para produzir novas ferramentas afiadas que possam trazer ganhos duradouros em termos de competitividad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o perceberem que os concorrentes estão utilizando a informação como vantagem competitiva, eles reconhecem a necessidade de se envolverem diretamente na gestão tecnológ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6" descr="j0149481"/>
          <p:cNvPicPr/>
          <p:nvPr/>
        </p:nvPicPr>
        <p:blipFill>
          <a:blip r:embed="rId1"/>
          <a:stretch/>
        </p:blipFill>
        <p:spPr>
          <a:xfrm>
            <a:off x="5479920" y="2833560"/>
            <a:ext cx="214488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2209680" y="60948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66"/>
                </a:solidFill>
                <a:latin typeface="Arial Black"/>
              </a:rPr>
              <a:t>PRINCÍPIO DE GAUSE* (“Exclusão Competitiva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762120" y="16765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uas ou mais espécies que conseguem seu sustento de maneira idêntica não podem coexisti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4952880" y="2514600"/>
            <a:ext cx="3353040" cy="70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* Prof. G. F. Ga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niversidade de Moscou (193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1066680" y="3733920"/>
            <a:ext cx="71629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66"/>
                </a:solidFill>
                <a:latin typeface="Arial Black"/>
              </a:rPr>
              <a:t>ANALOGIA EMPRES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uas ou mais organizações que operam de maneira idêntica – ou seja, competem pelos mesmos recursos – não podem coexist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8532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Verdana"/>
              </a:rPr>
              <a:t>A Cadeia de Valor Virtual</a:t>
            </a: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7848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Hoje, a TI difunde-se por toda a cadeia de valores e vem desempenhando funções de otimização e controle, assim como atividades executivas que exigem algum grau de julgamen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  conceito de uma cadeia de valor virtual propicia uma visão de inovação em serviços que cria valor utilizando a informação coletada enquanto o cliente é atendi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8532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Verdana"/>
              </a:rPr>
              <a:t>A Cadeia de Valor Virtual</a:t>
            </a: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257280" y="2201760"/>
            <a:ext cx="18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OMPETI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6"/>
          <p:cNvSpPr/>
          <p:nvPr/>
        </p:nvSpPr>
        <p:spPr>
          <a:xfrm>
            <a:off x="971640" y="234936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5219640" y="234936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8"/>
          <p:cNvSpPr/>
          <p:nvPr/>
        </p:nvSpPr>
        <p:spPr>
          <a:xfrm>
            <a:off x="1116000" y="3068640"/>
            <a:ext cx="2087640" cy="7920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Lugar de Mercad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5292720" y="3068640"/>
            <a:ext cx="2158920" cy="7920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Espaço de Mercad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10"/>
          <p:cNvSpPr/>
          <p:nvPr/>
        </p:nvSpPr>
        <p:spPr>
          <a:xfrm>
            <a:off x="1116000" y="4724280"/>
            <a:ext cx="208764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Cadeia de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Oval 11"/>
          <p:cNvSpPr/>
          <p:nvPr/>
        </p:nvSpPr>
        <p:spPr>
          <a:xfrm>
            <a:off x="5364000" y="4724280"/>
            <a:ext cx="208764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Cadeia de Valor Vir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17"/>
          <p:cNvSpPr/>
          <p:nvPr/>
        </p:nvSpPr>
        <p:spPr>
          <a:xfrm>
            <a:off x="1979640" y="4005360"/>
            <a:ext cx="485640" cy="504720"/>
          </a:xfrm>
          <a:prstGeom prst="upArrow">
            <a:avLst>
              <a:gd name="adj1" fmla="val 50000"/>
              <a:gd name="adj2" fmla="val 259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18"/>
          <p:cNvSpPr/>
          <p:nvPr/>
        </p:nvSpPr>
        <p:spPr>
          <a:xfrm>
            <a:off x="6156360" y="4076640"/>
            <a:ext cx="485640" cy="504720"/>
          </a:xfrm>
          <a:prstGeom prst="upArrow">
            <a:avLst>
              <a:gd name="adj1" fmla="val 50000"/>
              <a:gd name="adj2" fmla="val 259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9"/>
          <p:cNvSpPr/>
          <p:nvPr/>
        </p:nvSpPr>
        <p:spPr>
          <a:xfrm>
            <a:off x="900000" y="213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20"/>
          <p:cNvSpPr/>
          <p:nvPr/>
        </p:nvSpPr>
        <p:spPr>
          <a:xfrm>
            <a:off x="7524720" y="213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Verdana"/>
              </a:rPr>
              <a:t>Criando Vantagem Competitiva</a:t>
            </a:r>
            <a:endParaRPr b="0" i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7" name="Diagram 6"/>
          <p:cNvGrpSpPr/>
          <p:nvPr/>
        </p:nvGrpSpPr>
        <p:grpSpPr>
          <a:xfrm>
            <a:off x="2779920" y="2040120"/>
            <a:ext cx="3581280" cy="3581280"/>
            <a:chOff x="2779920" y="2040120"/>
            <a:chExt cx="3581280" cy="3581280"/>
          </a:xfrm>
        </p:grpSpPr>
        <p:sp>
          <p:nvSpPr>
            <p:cNvPr id="128" name="_s1028"/>
            <p:cNvSpPr/>
            <p:nvPr/>
          </p:nvSpPr>
          <p:spPr>
            <a:xfrm>
              <a:off x="2779920" y="2040120"/>
              <a:ext cx="3581280" cy="3581280"/>
            </a:xfrm>
            <a:prstGeom prst="blockArc">
              <a:avLst>
                <a:gd name="adj1" fmla="val 14880000"/>
                <a:gd name="adj2" fmla="val 6720000"/>
                <a:gd name="adj3" fmla="val 12500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_s1029"/>
            <p:cNvSpPr/>
            <p:nvPr/>
          </p:nvSpPr>
          <p:spPr>
            <a:xfrm rot="5400000">
              <a:off x="2779920" y="2039760"/>
              <a:ext cx="3581280" cy="3581280"/>
            </a:xfrm>
            <a:prstGeom prst="blockArc">
              <a:avLst>
                <a:gd name="adj1" fmla="val 14880000"/>
                <a:gd name="adj2" fmla="val 6720000"/>
                <a:gd name="adj3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_s1030"/>
            <p:cNvSpPr/>
            <p:nvPr/>
          </p:nvSpPr>
          <p:spPr>
            <a:xfrm rot="10800000">
              <a:off x="2779920" y="2040120"/>
              <a:ext cx="3581280" cy="3581280"/>
            </a:xfrm>
            <a:prstGeom prst="blockArc">
              <a:avLst>
                <a:gd name="adj1" fmla="val 14880000"/>
                <a:gd name="adj2" fmla="val 6720000"/>
                <a:gd name="adj3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_s1031"/>
            <p:cNvSpPr/>
            <p:nvPr/>
          </p:nvSpPr>
          <p:spPr>
            <a:xfrm rot="16200000">
              <a:off x="2779920" y="2040120"/>
              <a:ext cx="3581280" cy="3581280"/>
            </a:xfrm>
            <a:prstGeom prst="blockArc">
              <a:avLst>
                <a:gd name="adj1" fmla="val 14880000"/>
                <a:gd name="adj2" fmla="val 6720000"/>
                <a:gd name="adj3" fmla="val 12500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_s1032"/>
            <p:cNvSpPr/>
            <p:nvPr/>
          </p:nvSpPr>
          <p:spPr>
            <a:xfrm>
              <a:off x="5218200" y="2264040"/>
              <a:ext cx="917640" cy="9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Reduçã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de Cus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_s1033"/>
            <p:cNvSpPr/>
            <p:nvPr/>
          </p:nvSpPr>
          <p:spPr>
            <a:xfrm>
              <a:off x="5220000" y="4476960"/>
              <a:ext cx="917280" cy="9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Substituição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Fornece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_s1034"/>
            <p:cNvSpPr/>
            <p:nvPr/>
          </p:nvSpPr>
          <p:spPr>
            <a:xfrm>
              <a:off x="3006720" y="4480200"/>
              <a:ext cx="917640" cy="9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Barreir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a Entra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_s1035"/>
            <p:cNvSpPr/>
            <p:nvPr/>
          </p:nvSpPr>
          <p:spPr>
            <a:xfrm>
              <a:off x="3003840" y="2265480"/>
              <a:ext cx="917280" cy="9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Diferenci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Oval 16"/>
          <p:cNvSpPr/>
          <p:nvPr/>
        </p:nvSpPr>
        <p:spPr>
          <a:xfrm>
            <a:off x="3924360" y="3068640"/>
            <a:ext cx="1439640" cy="1440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Vantag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Competi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828800" y="4572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66"/>
                </a:solidFill>
                <a:latin typeface="Arial Black"/>
              </a:rPr>
              <a:t>GESTÃO ESTRATÉ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3"/>
          <p:cNvSpPr/>
          <p:nvPr/>
        </p:nvSpPr>
        <p:spPr>
          <a:xfrm>
            <a:off x="3657600" y="1295280"/>
            <a:ext cx="243828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4"/>
          <p:cNvSpPr/>
          <p:nvPr/>
        </p:nvSpPr>
        <p:spPr>
          <a:xfrm>
            <a:off x="1295280" y="2133720"/>
            <a:ext cx="2438640" cy="99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5"/>
          <p:cNvSpPr/>
          <p:nvPr/>
        </p:nvSpPr>
        <p:spPr>
          <a:xfrm>
            <a:off x="5410080" y="3809880"/>
            <a:ext cx="243864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6"/>
          <p:cNvSpPr/>
          <p:nvPr/>
        </p:nvSpPr>
        <p:spPr>
          <a:xfrm>
            <a:off x="2057400" y="3809880"/>
            <a:ext cx="243828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7"/>
          <p:cNvSpPr/>
          <p:nvPr/>
        </p:nvSpPr>
        <p:spPr>
          <a:xfrm>
            <a:off x="6095880" y="2133720"/>
            <a:ext cx="2438640" cy="99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8"/>
          <p:cNvSpPr/>
          <p:nvPr/>
        </p:nvSpPr>
        <p:spPr>
          <a:xfrm>
            <a:off x="3886200" y="2514600"/>
            <a:ext cx="1981080" cy="1295280"/>
          </a:xfrm>
          <a:prstGeom prst="pentagon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4038480" y="28954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MPOS DE RESUL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3886200" y="14479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conômico Finance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1371600" y="22860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Qualidade para o 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2209680" y="39625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ecnologia e Proces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6324480" y="2362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magem e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5562720" y="39625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trimônio Hum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3429000" y="6019920"/>
            <a:ext cx="29718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UMENTO DO “VALO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6"/>
          <p:cNvSpPr/>
          <p:nvPr/>
        </p:nvSpPr>
        <p:spPr>
          <a:xfrm>
            <a:off x="1219320" y="1066680"/>
            <a:ext cx="7467480" cy="4038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7"/>
          <p:cNvSpPr/>
          <p:nvPr/>
        </p:nvSpPr>
        <p:spPr>
          <a:xfrm rot="5400000">
            <a:off x="4533480" y="4686120"/>
            <a:ext cx="685800" cy="1676520"/>
          </a:xfrm>
          <a:custGeom>
            <a:avLst/>
            <a:gdLst>
              <a:gd name="textAreaLeft" fmla="*/ 85680 w 685800"/>
              <a:gd name="textAreaRight" fmla="*/ 600120 w 685800"/>
              <a:gd name="textAreaTop" fmla="*/ 419040 h 1676520"/>
              <a:gd name="textAreaBottom" fmla="*/ 12574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0000"/>
                </a:solidFill>
                <a:latin typeface="Verdana"/>
              </a:rPr>
              <a:t>Os Dirigentes e a TI</a:t>
            </a: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755640" y="1413000"/>
          <a:ext cx="8280360" cy="4176720"/>
        </p:xfrm>
        <a:graphic>
          <a:graphicData uri="http://schemas.openxmlformats.org/drawingml/2006/table">
            <a:tbl>
              <a:tblPr/>
              <a:tblGrid>
                <a:gridCol w="2232000"/>
                <a:gridCol w="3024360"/>
                <a:gridCol w="3024000"/>
              </a:tblGrid>
              <a:tr h="99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CARICATU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Atitude Aparente e Comportamen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EXEMP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er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eita publicamente a importância da TI, mas nega essa aceitação com suas açõe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ca uma reunião importante sobre TI e se ause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egu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iste em aceitar a TI e não está preparado para se envolver com e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u não tenho tempo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em mais poderia assumir essa tarefa?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á convencido de que a TI não tem muito valo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ospreza a TI como recurso estratégico e se opõe a opiniões diferent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0000"/>
                </a:solidFill>
                <a:latin typeface="Verdana"/>
              </a:rPr>
              <a:t>Os Dirigentes e a TI</a:t>
            </a: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63640" y="1197000"/>
          <a:ext cx="8280360" cy="4562280"/>
        </p:xfrm>
        <a:graphic>
          <a:graphicData uri="http://schemas.openxmlformats.org/drawingml/2006/table">
            <a:tbl>
              <a:tblPr/>
              <a:tblGrid>
                <a:gridCol w="2232000"/>
                <a:gridCol w="3024000"/>
                <a:gridCol w="3024360"/>
              </a:tblGrid>
              <a:tr h="99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CARICATU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Atitude Aparente e Comportamen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EXEMP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anó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á convencido de que a TI é importante e acha que é uma autoridade no assunt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fere nas decisões dos técnicos, geralmente provocando erros desastros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rédu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mite que a TI é estratégica mas precisa ser continuamente convencid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 investimento em TI exige uma boa justificativa. Preciso de provas de sucesso anterior antes de acreditar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rão entedi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eita a TI, contrata o melhor Diretor de TI e se retira para os bastidor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fere a responsabilidade, numa indicação que não se dedicará a T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0000"/>
                </a:solidFill>
                <a:latin typeface="Verdana"/>
              </a:rPr>
              <a:t>Os Dirigentes e a TI</a:t>
            </a: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863640" y="1197000"/>
          <a:ext cx="8280360" cy="4032360"/>
        </p:xfrm>
        <a:graphic>
          <a:graphicData uri="http://schemas.openxmlformats.org/drawingml/2006/table">
            <a:tbl>
              <a:tblPr/>
              <a:tblGrid>
                <a:gridCol w="2232000"/>
                <a:gridCol w="3024000"/>
                <a:gridCol w="3024360"/>
              </a:tblGrid>
              <a:tr h="17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CARICATU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Atitude Aparente e Comportamen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EXEMP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C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redita que a TI promova a vantagem estratégica. Demonstra sua crença com comportamentos rotineir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 dirigente defende sua crença em seminários sobre estratégia, nas reuniões da empresa e em artigos publicad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Verdana"/>
              </a:rPr>
              <a:t>Conceito</a:t>
            </a: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90741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je, o termo “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rocessamento de Dados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briu caminho para outra expressão – TECNOLOGIA DA INFORMAÇÃO, 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que implica a mesma coisa, mas apresenta uma sutil mudança de foco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A ênfase não está mais no processamento de grandes quantidades de dados, mas ao contrário, em se extrair informações significativas desses da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8532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Verdana"/>
              </a:rPr>
              <a:t>Competindo na Era da Informação</a:t>
            </a:r>
            <a:endParaRPr b="0" i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7848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As empresas que anteciparem o poder da Tecnologia da Informação estarão no controle dos event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Aquelas que não responderem ao desafio serão forçadas a aceitar as mudanças impostas pelas demais e se encontrarão em desvantagem competiti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8532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Verdana"/>
              </a:rPr>
              <a:t>Exercícios</a:t>
            </a: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6337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Como a Tecnologia da Informação influenciará a competição e as fontes de vantagem competitiv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Quais estratégias a empresa deve adotar para explorar a Tecnologia da Informação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Como seremos afetados pelos rivais que já utilizam a Tecnologia da Informação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Entre as prioridades de investimento em TI, quais são as mais urgent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Picture 4" descr="j0299125"/>
          <p:cNvPicPr/>
          <p:nvPr/>
        </p:nvPicPr>
        <p:blipFill>
          <a:blip r:embed="rId1"/>
          <a:stretch/>
        </p:blipFill>
        <p:spPr>
          <a:xfrm>
            <a:off x="7667640" y="213372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Verdana"/>
              </a:rPr>
              <a:t>Conceito</a:t>
            </a: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3809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viamente, esta sempre foi a intenção, mas a mudança de terminologia reflete uma mudança bem mais importante na filosofia administrativ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" name="Picture 4" descr="images3"/>
          <p:cNvPicPr/>
          <p:nvPr/>
        </p:nvPicPr>
        <p:blipFill>
          <a:blip r:embed="rId1"/>
          <a:stretch/>
        </p:blipFill>
        <p:spPr>
          <a:xfrm>
            <a:off x="5969160" y="2924280"/>
            <a:ext cx="234792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Verdana"/>
              </a:rPr>
              <a:t>Conceito</a:t>
            </a: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8388360" cy="22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Tecnologia de Informação consiste na tecnologia que engloba o uso das novas facilidades e recursos para captação, armazenamento, processamento, recuperação e disseminação de informações com base nos desenvolvimentos tecnológicos na computação e nas comunicaçõ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" name="Picture 6" descr="j0300520"/>
          <p:cNvPicPr/>
          <p:nvPr/>
        </p:nvPicPr>
        <p:blipFill>
          <a:blip r:embed="rId1"/>
          <a:stretch/>
        </p:blipFill>
        <p:spPr>
          <a:xfrm>
            <a:off x="3924360" y="4149720"/>
            <a:ext cx="136836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Verdana"/>
              </a:rPr>
              <a:t>Conceito</a:t>
            </a: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8388360" cy="22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Tecnologia de Informação pode ainda ser definida como o conjunto de programas computacionais,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hardware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, pessoas, procedimentos, documentações,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inputs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e resultados usados no universo dos negóci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Picture 4" descr="j0234657"/>
          <p:cNvPicPr/>
          <p:nvPr/>
        </p:nvPicPr>
        <p:blipFill>
          <a:blip r:embed="rId1"/>
          <a:stretch/>
        </p:blipFill>
        <p:spPr>
          <a:xfrm>
            <a:off x="3419640" y="3645000"/>
            <a:ext cx="1712880" cy="16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0000"/>
                </a:solidFill>
                <a:latin typeface="Verdana"/>
              </a:rPr>
              <a:t>Dados X Informação</a:t>
            </a:r>
            <a:endParaRPr b="0" i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219320" y="2286000"/>
            <a:ext cx="739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nformação é um dado ou mais dados processados, tratados, lapid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295280" y="3733920"/>
            <a:ext cx="7086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Dado: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    A 0 T 5 A 0 D 8 0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Informação: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    D A T A 0 5 0 8 0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3635280" y="5013360"/>
            <a:ext cx="24386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Process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763640" y="5373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D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6300720" y="5373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Inform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8"/>
          <p:cNvSpPr/>
          <p:nvPr/>
        </p:nvSpPr>
        <p:spPr>
          <a:xfrm>
            <a:off x="1763640" y="530064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9"/>
          <p:cNvSpPr/>
          <p:nvPr/>
        </p:nvSpPr>
        <p:spPr>
          <a:xfrm>
            <a:off x="6300720" y="530064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Dados -&gt; Informação -&gt; Conhecimento -&gt; Sabedoria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907416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dos são informações brutas – coleções de fatos que devem ser processados para ser significativo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informação é derivada ao associar fatos dentro de um determinado contex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 conhecimento usa informações obtidas num contexto e as associa a outras obtidas num contexto difer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abedoria ocorre quando princípios generalizados são derivados de um conhecimento díspa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4"/>
          <p:cNvSpPr/>
          <p:nvPr/>
        </p:nvSpPr>
        <p:spPr>
          <a:xfrm>
            <a:off x="1403280" y="2565360"/>
            <a:ext cx="312840" cy="241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757800" y="292428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ados – Nenhu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ssociativ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6"/>
          <p:cNvSpPr/>
          <p:nvPr/>
        </p:nvSpPr>
        <p:spPr>
          <a:xfrm>
            <a:off x="3851280" y="2492280"/>
            <a:ext cx="360360" cy="28908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7"/>
          <p:cNvSpPr/>
          <p:nvPr/>
        </p:nvSpPr>
        <p:spPr>
          <a:xfrm>
            <a:off x="5076720" y="2492280"/>
            <a:ext cx="360360" cy="28908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8"/>
          <p:cNvSpPr/>
          <p:nvPr/>
        </p:nvSpPr>
        <p:spPr>
          <a:xfrm>
            <a:off x="4211640" y="26370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3354480" y="2852640"/>
            <a:ext cx="261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formação – Associativ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entro de um contex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10"/>
          <p:cNvSpPr/>
          <p:nvPr/>
        </p:nvSpPr>
        <p:spPr>
          <a:xfrm>
            <a:off x="6732720" y="1700280"/>
            <a:ext cx="360360" cy="28872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11"/>
          <p:cNvSpPr/>
          <p:nvPr/>
        </p:nvSpPr>
        <p:spPr>
          <a:xfrm>
            <a:off x="8028000" y="2276640"/>
            <a:ext cx="360360" cy="28872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2"/>
          <p:cNvSpPr/>
          <p:nvPr/>
        </p:nvSpPr>
        <p:spPr>
          <a:xfrm>
            <a:off x="6732720" y="2997360"/>
            <a:ext cx="360360" cy="28872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3"/>
          <p:cNvSpPr/>
          <p:nvPr/>
        </p:nvSpPr>
        <p:spPr>
          <a:xfrm>
            <a:off x="7093080" y="1844640"/>
            <a:ext cx="93492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4"/>
          <p:cNvSpPr/>
          <p:nvPr/>
        </p:nvSpPr>
        <p:spPr>
          <a:xfrm flipV="1">
            <a:off x="6877080" y="198864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5"/>
          <p:cNvSpPr/>
          <p:nvPr/>
        </p:nvSpPr>
        <p:spPr>
          <a:xfrm flipV="1">
            <a:off x="7093080" y="2492280"/>
            <a:ext cx="93492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6519600" y="3357720"/>
            <a:ext cx="234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Conhecimento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ssociatividade dentro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Múltiplos contex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17"/>
          <p:cNvSpPr/>
          <p:nvPr/>
        </p:nvSpPr>
        <p:spPr>
          <a:xfrm>
            <a:off x="1619280" y="3933720"/>
            <a:ext cx="360360" cy="28908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18"/>
          <p:cNvSpPr/>
          <p:nvPr/>
        </p:nvSpPr>
        <p:spPr>
          <a:xfrm>
            <a:off x="1619280" y="4941720"/>
            <a:ext cx="360360" cy="28908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19"/>
          <p:cNvSpPr/>
          <p:nvPr/>
        </p:nvSpPr>
        <p:spPr>
          <a:xfrm>
            <a:off x="2411280" y="4437000"/>
            <a:ext cx="360360" cy="28908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20"/>
          <p:cNvSpPr/>
          <p:nvPr/>
        </p:nvSpPr>
        <p:spPr>
          <a:xfrm>
            <a:off x="3059280" y="3933720"/>
            <a:ext cx="360360" cy="28908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21"/>
          <p:cNvSpPr/>
          <p:nvPr/>
        </p:nvSpPr>
        <p:spPr>
          <a:xfrm>
            <a:off x="3059280" y="4941720"/>
            <a:ext cx="360360" cy="28908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22"/>
          <p:cNvSpPr/>
          <p:nvPr/>
        </p:nvSpPr>
        <p:spPr>
          <a:xfrm>
            <a:off x="3924360" y="4437000"/>
            <a:ext cx="360360" cy="28908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23"/>
          <p:cNvSpPr/>
          <p:nvPr/>
        </p:nvSpPr>
        <p:spPr>
          <a:xfrm>
            <a:off x="1835280" y="4221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24"/>
          <p:cNvSpPr/>
          <p:nvPr/>
        </p:nvSpPr>
        <p:spPr>
          <a:xfrm flipV="1">
            <a:off x="1979640" y="465264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25"/>
          <p:cNvSpPr/>
          <p:nvPr/>
        </p:nvSpPr>
        <p:spPr>
          <a:xfrm>
            <a:off x="1979640" y="4149720"/>
            <a:ext cx="5047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26"/>
          <p:cNvSpPr/>
          <p:nvPr/>
        </p:nvSpPr>
        <p:spPr>
          <a:xfrm>
            <a:off x="1979640" y="4076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27"/>
          <p:cNvSpPr/>
          <p:nvPr/>
        </p:nvSpPr>
        <p:spPr>
          <a:xfrm>
            <a:off x="1979640" y="5157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28"/>
          <p:cNvSpPr/>
          <p:nvPr/>
        </p:nvSpPr>
        <p:spPr>
          <a:xfrm>
            <a:off x="1979640" y="5084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29"/>
          <p:cNvSpPr/>
          <p:nvPr/>
        </p:nvSpPr>
        <p:spPr>
          <a:xfrm>
            <a:off x="3203640" y="4221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30"/>
          <p:cNvSpPr/>
          <p:nvPr/>
        </p:nvSpPr>
        <p:spPr>
          <a:xfrm flipV="1">
            <a:off x="3419640" y="4652640"/>
            <a:ext cx="57600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31"/>
          <p:cNvSpPr/>
          <p:nvPr/>
        </p:nvSpPr>
        <p:spPr>
          <a:xfrm>
            <a:off x="3419640" y="4076640"/>
            <a:ext cx="576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32"/>
          <p:cNvSpPr/>
          <p:nvPr/>
        </p:nvSpPr>
        <p:spPr>
          <a:xfrm>
            <a:off x="2771640" y="4581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3"/>
          <p:cNvSpPr/>
          <p:nvPr/>
        </p:nvSpPr>
        <p:spPr>
          <a:xfrm>
            <a:off x="4433040" y="4653000"/>
            <a:ext cx="3571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bedoria: Criação de princíp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eneralizados baseados no conheci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existente de diferentes fon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34"/>
          <p:cNvSpPr/>
          <p:nvPr/>
        </p:nvSpPr>
        <p:spPr>
          <a:xfrm>
            <a:off x="75564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Dados -&gt; Informação -&gt; Conhecimento -&gt; Sabed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8532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Verdana"/>
              </a:rPr>
              <a:t>A Gestão de Serviços e a Tecnologia de Informações</a:t>
            </a:r>
            <a:endParaRPr b="0" i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51134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s grandes ganhos de produtividade na agricultura e na indústria vieram de substituição do esforço humano pela tecnolog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informação é a tecnologia que torna possível os processos da inovação em serviç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6" descr="j0240695"/>
          <p:cNvPicPr/>
          <p:nvPr/>
        </p:nvPicPr>
        <p:blipFill>
          <a:blip r:embed="rId1"/>
          <a:stretch/>
        </p:blipFill>
        <p:spPr>
          <a:xfrm>
            <a:off x="6227640" y="2637000"/>
            <a:ext cx="182592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31T12:39:55Z</dcterms:created>
  <dc:creator>Carol</dc:creator>
  <dc:description/>
  <dc:language>en-US</dc:language>
  <cp:lastModifiedBy>Romulo</cp:lastModifiedBy>
  <dcterms:modified xsi:type="dcterms:W3CDTF">2008-12-10T17:58:53Z</dcterms:modified>
  <cp:revision>180</cp:revision>
  <dc:subject/>
  <dc:title>Apresentação do PowerPoint</dc:title>
</cp:coreProperties>
</file>